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251-8DAF-4F93-BF5D-4B0273C7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328-09CF-4EA1-A422-611537FE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A0E-54E1-4B0F-AF4B-9B6FDFE3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BA9-9392-486C-8973-705F77A2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B28-B5BE-4FD6-8124-072FBB5A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324-E413-4BBF-B66D-9305EC46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B2F-0C80-401D-9FC2-131DA65C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D02-0664-40AF-B501-71191671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23F-D64A-42C4-BC5A-646CABA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8C6-4A73-42D5-BB5D-B6E0E3B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ECA-1FC5-4559-A531-02FC242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ED7-2402-46EE-BBDC-B83DAC9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71D-6E3E-4064-B563-6B05A75C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80" y="1143000"/>
            <a:ext cx="8950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ow well does COAMPS TKE distribution compare with observ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geault Mixing Length (1986): A nonlocal formulation depending on turbulence kinetic energy (TKE) and thermal s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5624640"/>
            <a:ext cx="5105520" cy="580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e Bougeault method results in much increased value in the TC inner core re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61923" t="14589" r="30814" b="13437"/>
          <a:stretch/>
        </p:blipFill>
        <p:spPr>
          <a:xfrm>
            <a:off x="8764560" y="2529000"/>
            <a:ext cx="379440" cy="29034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2421000"/>
            <a:ext cx="3805200" cy="3747960"/>
            <a:chOff x="0" y="2421000"/>
            <a:chExt cx="3805200" cy="3747960"/>
          </a:xfrm>
        </p:grpSpPr>
        <p:grpSp>
          <p:nvGrpSpPr>
            <p:cNvPr id="45" name=""/>
            <p:cNvGrpSpPr/>
            <p:nvPr/>
          </p:nvGrpSpPr>
          <p:grpSpPr>
            <a:xfrm>
              <a:off x="0" y="2421000"/>
              <a:ext cx="3805200" cy="3747960"/>
              <a:chOff x="0" y="2421000"/>
              <a:chExt cx="3805200" cy="374796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1352520" y="3422520"/>
                <a:ext cx="743040" cy="576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0" y="2421000"/>
                <a:ext cx="3805200" cy="3747960"/>
                <a:chOff x="0" y="2421000"/>
                <a:chExt cx="3805200" cy="37479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284120" y="5232240"/>
                  <a:ext cx="811440" cy="5043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1284120" y="4582440"/>
                  <a:ext cx="0" cy="64908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1284120" y="4006440"/>
                  <a:ext cx="68400" cy="57564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2095560" y="2636640"/>
                  <a:ext cx="879480" cy="79344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095560" y="5736960"/>
                  <a:ext cx="473040" cy="43164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" name=""/>
                <p:cNvGrpSpPr/>
                <p:nvPr/>
              </p:nvGrpSpPr>
              <p:grpSpPr>
                <a:xfrm>
                  <a:off x="0" y="2421000"/>
                  <a:ext cx="3645000" cy="3747960"/>
                  <a:chOff x="0" y="2421000"/>
                  <a:chExt cx="3645000" cy="374796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0" y="3430440"/>
                    <a:ext cx="3583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0" y="4006800"/>
                    <a:ext cx="3583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0" y="4582800"/>
                    <a:ext cx="3583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0" y="5232240"/>
                    <a:ext cx="3583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0" y="5736960"/>
                    <a:ext cx="3583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8400" y="6168960"/>
                    <a:ext cx="3514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flipV="1">
                    <a:off x="2095560" y="5160600"/>
                    <a:ext cx="0" cy="575640"/>
                  </a:xfrm>
                  <a:prstGeom prst="line">
                    <a:avLst/>
                  </a:prstGeom>
                  <a:ln w="38160">
                    <a:solidFill>
                      <a:srgbClr val="0099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041640" y="2421000"/>
                    <a:ext cx="53964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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V="1">
                    <a:off x="2095560" y="5736600"/>
                    <a:ext cx="0" cy="431640"/>
                  </a:xfrm>
                  <a:prstGeom prst="line">
                    <a:avLst/>
                  </a:prstGeom>
                  <a:ln w="38160">
                    <a:solidFill>
                      <a:srgbClr val="009900"/>
                    </a:solidFill>
                    <a:prstDash val="dash"/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63" name=""/>
                      <p:cNvSpPr txBox="1"/>
                      <p:nvPr/>
                    </p:nvSpPr>
                    <p:spPr>
                      <a:xfrm>
                        <a:off x="135000" y="5702040"/>
                        <a:ext cx="1757160" cy="4107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K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Δz</m:t>
                            </m:r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?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64" name=""/>
                  <p:cNvSpPr/>
                  <p:nvPr/>
                </p:nvSpPr>
                <p:spPr>
                  <a:xfrm>
                    <a:off x="2630520" y="5757840"/>
                    <a:ext cx="1014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urfac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 flipV="1">
                  <a:off x="2077920" y="2643120"/>
                  <a:ext cx="0" cy="25236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6" name=""/>
                    <p:cNvSpPr txBox="1"/>
                    <p:nvPr/>
                  </p:nvSpPr>
                  <p:spPr>
                    <a:xfrm>
                      <a:off x="2116080" y="3527280"/>
                      <a:ext cx="1689120" cy="394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KE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den>
                          </m:f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Δz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?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67" name=""/>
            <p:cNvSpPr/>
            <p:nvPr/>
          </p:nvSpPr>
          <p:spPr>
            <a:xfrm>
              <a:off x="2039760" y="5671800"/>
              <a:ext cx="10800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887640" y="2421000"/>
            <a:ext cx="4898880" cy="2962800"/>
            <a:chOff x="3887640" y="2421000"/>
            <a:chExt cx="4898880" cy="2962800"/>
          </a:xfrm>
        </p:grpSpPr>
        <p:grpSp>
          <p:nvGrpSpPr>
            <p:cNvPr id="69" name=""/>
            <p:cNvGrpSpPr/>
            <p:nvPr/>
          </p:nvGrpSpPr>
          <p:grpSpPr>
            <a:xfrm>
              <a:off x="4033440" y="2421000"/>
              <a:ext cx="4753080" cy="2962800"/>
              <a:chOff x="4033440" y="2421000"/>
              <a:chExt cx="4753080" cy="2962800"/>
            </a:xfrm>
          </p:grpSpPr>
          <p:sp>
            <p:nvSpPr>
              <p:cNvPr id="70" name=""/>
              <p:cNvSpPr/>
              <p:nvPr/>
            </p:nvSpPr>
            <p:spPr>
              <a:xfrm>
                <a:off x="7705080" y="5013000"/>
                <a:ext cx="39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4033440" y="2421000"/>
                <a:ext cx="4753080" cy="2962800"/>
                <a:chOff x="4033440" y="2421000"/>
                <a:chExt cx="4753080" cy="296280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6258960" y="2617560"/>
                  <a:ext cx="2527560" cy="2616120"/>
                  <a:chOff x="6258960" y="2617560"/>
                  <a:chExt cx="2527560" cy="26161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6328800" y="4660200"/>
                    <a:ext cx="25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6328800" y="4404600"/>
                    <a:ext cx="25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328800" y="4141080"/>
                    <a:ext cx="25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6328800" y="3893400"/>
                    <a:ext cx="25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6258960" y="3631680"/>
                    <a:ext cx="3207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258960" y="3379320"/>
                    <a:ext cx="3207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258960" y="3131640"/>
                    <a:ext cx="3207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258960" y="2879280"/>
                    <a:ext cx="3207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258960" y="2617560"/>
                    <a:ext cx="3207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6700320" y="4987440"/>
                    <a:ext cx="3207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014600" y="4987440"/>
                    <a:ext cx="390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352640" y="4987440"/>
                    <a:ext cx="390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5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62200" y="4987440"/>
                    <a:ext cx="390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5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395560" y="4987440"/>
                    <a:ext cx="390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0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395400" y="4982400"/>
                    <a:ext cx="25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4033440" y="2421000"/>
                  <a:ext cx="4692240" cy="2962800"/>
                  <a:chOff x="4033440" y="2421000"/>
                  <a:chExt cx="4692240" cy="296280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4033440" y="2467080"/>
                    <a:ext cx="2526840" cy="2774160"/>
                    <a:chOff x="4033440" y="2467080"/>
                    <a:chExt cx="2526840" cy="2774160"/>
                  </a:xfrm>
                </p:grpSpPr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rcRect l="16231" t="15020" r="41108" b="20894"/>
                    <a:stretch/>
                  </p:blipFill>
                  <p:spPr>
                    <a:xfrm>
                      <a:off x="4266720" y="2467080"/>
                      <a:ext cx="2226960" cy="25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4033440" y="2619360"/>
                      <a:ext cx="2526840" cy="2621880"/>
                      <a:chOff x="4033440" y="2619360"/>
                      <a:chExt cx="2526840" cy="2621880"/>
                    </a:xfrm>
                  </p:grpSpPr>
                  <p:grpSp>
                    <p:nvGrpSpPr>
                      <p:cNvPr id="92" name=""/>
                      <p:cNvGrpSpPr/>
                      <p:nvPr/>
                    </p:nvGrpSpPr>
                    <p:grpSpPr>
                      <a:xfrm>
                        <a:off x="4033440" y="2619360"/>
                        <a:ext cx="2526840" cy="2615760"/>
                        <a:chOff x="4033440" y="2619360"/>
                        <a:chExt cx="2526840" cy="2615760"/>
                      </a:xfrm>
                    </p:grpSpPr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4102920" y="4661640"/>
                          <a:ext cx="25092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4102920" y="4406040"/>
                          <a:ext cx="25092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4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4102920" y="4142520"/>
                          <a:ext cx="25092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6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4102920" y="3895200"/>
                          <a:ext cx="25092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8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4033440" y="3633480"/>
                          <a:ext cx="3207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0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4033440" y="3381120"/>
                          <a:ext cx="3207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2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4033440" y="3133440"/>
                          <a:ext cx="3207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4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4033440" y="2881080"/>
                          <a:ext cx="3207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6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4033440" y="2619360"/>
                          <a:ext cx="3207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8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4474080" y="4988880"/>
                          <a:ext cx="3207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0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4788360" y="4988880"/>
                          <a:ext cx="3909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00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>
                          <a:off x="5126400" y="4988880"/>
                          <a:ext cx="3909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50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>
                          <a:off x="5835960" y="4988880"/>
                          <a:ext cx="3909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250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6169320" y="4988880"/>
                          <a:ext cx="39096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00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4169520" y="4983840"/>
                          <a:ext cx="250920" cy="24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0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5482080" y="4995000"/>
                        <a:ext cx="3909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200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rcRect l="16190" t="14589" r="41091" b="20716"/>
                  <a:stretch/>
                </p:blipFill>
                <p:spPr>
                  <a:xfrm>
                    <a:off x="6495480" y="2421000"/>
                    <a:ext cx="22302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>
                    <a:off x="7102080" y="5130720"/>
                    <a:ext cx="10425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Radius (k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798440" y="5170320"/>
                    <a:ext cx="10425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Radius (k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598800" y="2538360"/>
                    <a:ext cx="19443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New Mixing length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366800" y="2538360"/>
                    <a:ext cx="19443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Old Mixing length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4" name=""/>
            <p:cNvSpPr/>
            <p:nvPr/>
          </p:nvSpPr>
          <p:spPr>
            <a:xfrm rot="16200000">
              <a:off x="3547440" y="358956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ight (k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066680" y="304920"/>
            <a:ext cx="708660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b0101"/>
                </a:solidFill>
                <a:uFillTx/>
                <a:latin typeface="Arial"/>
              </a:rPr>
              <a:t>Turbulence Parameterization in COAMPS-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houping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92000" y="137628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0864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geault mixing length gives a more realistic TKE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y does COAMPS TKE have a minimum at 4km, and larger values in gene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5520" y="1201680"/>
            <a:ext cx="89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ow well does COAMPS TKE distribution compare with observ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715000" y="1665360"/>
            <a:ext cx="3429000" cy="3151080"/>
            <a:chOff x="5715000" y="1665360"/>
            <a:chExt cx="3429000" cy="315108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4711" r="26572" b="9422"/>
            <a:stretch/>
          </p:blipFill>
          <p:spPr>
            <a:xfrm>
              <a:off x="5867280" y="2274840"/>
              <a:ext cx="32767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715000" y="1665360"/>
              <a:ext cx="3429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bs-based model of TKE profile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(Lorsolo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et al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. 20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5525280" y="3302280"/>
              <a:ext cx="1447920" cy="3070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KE &gt; 15 m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143000" y="304920"/>
            <a:ext cx="708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b0101"/>
                </a:solidFill>
                <a:uFillTx/>
                <a:latin typeface="Arial"/>
              </a:rPr>
              <a:t>Turbulence Parameterization in COAMPS-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989000"/>
            <a:ext cx="5638680" cy="2990880"/>
            <a:chOff x="0" y="1989000"/>
            <a:chExt cx="5638680" cy="29908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rcRect l="7500" t="6667" r="63755" b="51667"/>
            <a:stretch/>
          </p:blipFill>
          <p:spPr>
            <a:xfrm>
              <a:off x="0" y="2203560"/>
              <a:ext cx="25192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rcRect l="53755" t="6667" r="12500" b="51667"/>
            <a:stretch/>
          </p:blipFill>
          <p:spPr>
            <a:xfrm>
              <a:off x="2638440" y="2203560"/>
              <a:ext cx="3000240" cy="27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79640" y="1989000"/>
              <a:ext cx="201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New mixing sche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" y="1989000"/>
              <a:ext cx="1944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ld mixing sche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8360" y="2276280"/>
              <a:ext cx="12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AMPS T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16360" y="2276280"/>
              <a:ext cx="12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AMPS T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40360" y="1992240"/>
              <a:ext cx="53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s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1:22:27Z</dcterms:created>
  <dc:creator>Dr. Shouping Wang</dc:creator>
  <dc:description/>
  <dc:language>en-US</dc:language>
  <cp:lastModifiedBy>Dr. Shouping Wang</cp:lastModifiedBy>
  <dcterms:modified xsi:type="dcterms:W3CDTF">2010-03-17T18:24:12Z</dcterms:modified>
  <cp:revision>4</cp:revision>
  <dc:subject/>
  <dc:title>Slide 1</dc:title>
</cp:coreProperties>
</file>